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6D8-46D4-4ADA-8C78-0FEEE52E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967-0721-49CE-8253-1BE1E262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859-68A6-4526-88E9-2547AEE1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BE1E-DD8C-420A-8E11-F15C0294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436-37EE-4A7F-B4B8-2FE078E0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B5A0-6A1B-4B22-BB5C-1C316659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A95E-720C-47C3-A94D-F19456E0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F874-63ED-4948-94AE-802FAD5D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6D8-03DF-490E-80B0-B012B0DB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8EF-62AC-453B-8735-700DA7E8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48F-CDF3-4FB8-9AE6-87F45DEC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CAE-251B-4669-B038-AB30D674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CA02-C05B-49E4-A0F7-AEAC5C05D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450864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жде я не очень представляла, когда всё же была Великая Отечественная война и где она проходила. Мне казалось, что всё это было очень-очень давно и не слишком касается ме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56000" y="148428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летом ездить на дачу в Истру. В этом тихом и живописном месте, как теперь я понимаю, когда-то решалась и моя судьб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6264360" cy="4700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049800" y="2133720"/>
            <a:ext cx="2764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1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990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350040" y="2276640"/>
            <a:ext cx="2538360" cy="382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71640" y="1484280"/>
            <a:ext cx="316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однажды, когда мы с дедушкой жгли костер на даче, он рассказал, что прямо здесь, в районе нашего участка под Истрой, около шести десятилетий назад шли бои с фашистами. И я задалась целью узнать, кто из моих родных участвовал в той войне. Стала расспрашивать родителей, бабушку и дедуш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3" presetSubtype="3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56000" y="119844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азалось, что один мой прадедушка (дедушка моего папы) был танкистом, отважно и умело дрался с врагом. А после победы над фашистской Германией был комендантом города Кенигсбер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6720" y="3429000"/>
            <a:ext cx="338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угой дедушка моего папы тоже храбро воевал. Он сражался в битве на Курской дуге, был там тяжело ранен. Несмотря на увечье, вернувшись в родное село, освобожденное от немцев, восстанавливал нормальную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26280" y="1268280"/>
            <a:ext cx="25066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xit" presetID="3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3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627280" y="1773360"/>
            <a:ext cx="2513160" cy="3535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292720" y="2133720"/>
            <a:ext cx="324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ще один прадедушка (папа моей бабушки)  в годы войны был студентом авиационного института. Участвовал в выполнении особого военного задания, после чего был возвращен на учебу: стране требовались строители самоле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657520" y="2781360"/>
            <a:ext cx="2201760" cy="3451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84360" y="11970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ое оружие было еще у одного прадедушки – отца моего дедушки. Оно было направлено против умов вражеских солдат. Из реальных фотографий, с помощью ножниц, клея и краски прадедушка создавал композиции, так называемые фотомонта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338880" y="2781360"/>
            <a:ext cx="214632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2084400" cy="2737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13720" y="3357720"/>
            <a:ext cx="2070000" cy="2879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43280" y="1341360"/>
            <a:ext cx="410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и убеждали немецких солдат, что вожди Германии их обманули, когда обещали «лёгкую прогулку» в Россию. Что здесь они найдут смерть и позор. Что единственная надежда увидеть в будущем свои семьи – это сдаться в пл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94080" y="4076640"/>
            <a:ext cx="4165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и фотомонтажи печатались в виде листовок, которые разбрасывали с наших самолетов над позициями немцев. И очень многие солдаты врага под влиянием этих листовок действительно складывали оружие и сдавались в пл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5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356000" y="3025800"/>
            <a:ext cx="4392720" cy="298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56000" y="1268280"/>
            <a:ext cx="62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оказалось, у меня была замечательная тёзка – Полина Захарова, бабушка моей бабушки. Она трудилась в военном госпитале. А когда немцы были под Москвой, держала связь с партизанским отрядом. Для этого не раз с риском для жизни переходила линию фр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56000" y="1989000"/>
            <a:ext cx="345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хаживать за ранеными ей тогда помогала ее дочь, моя прабабушка, которой было лишь на пять лет больше, чем мне сейчас. А между дежурствами в госпитале девушка рыла противотанковые рвы, чтобы не пропустить немцев к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245280" y="1557360"/>
            <a:ext cx="2668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87640" y="2276640"/>
            <a:ext cx="54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ерь, я знаю, что все мои старшие родственники так или иначе участвовали в Великой Отечественной войне. И я ощущаю, что именно им и таким, как они, я обязана тем, что страна моя выстояла в той войне. Что сейчас я могу спокойно жить, ходить в школу, заниматься спортом и массой других интересных ве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108920" y="4149720"/>
            <a:ext cx="17366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8:05:13Z</dcterms:created>
  <dc:creator>u331647</dc:creator>
  <dc:description/>
  <dc:language>en-US</dc:language>
  <cp:lastModifiedBy>Дима</cp:lastModifiedBy>
  <dcterms:modified xsi:type="dcterms:W3CDTF">2011-01-26T17:28:08Z</dcterms:modified>
  <cp:revision>18</cp:revision>
  <dc:subject/>
  <dc:title>Слайд 1</dc:title>
</cp:coreProperties>
</file>